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4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1.jpeg" ContentType="image/jpeg"/>
  <Override PartName="/ppt/media/image9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707188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47C6-C841-4EF5-8CA9-BFD57C54C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58720" y="4430880"/>
            <a:ext cx="59943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f1209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34880" y="5159520"/>
            <a:ext cx="6573960" cy="4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>
              <a:spcBef>
                <a:spcPts val="1925"/>
              </a:spcBef>
              <a:spcAft>
                <a:spcPts val="19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234880" y="5633640"/>
            <a:ext cx="6573960" cy="4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>
              <a:spcBef>
                <a:spcPts val="1925"/>
              </a:spcBef>
              <a:spcAft>
                <a:spcPts val="19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582D-A357-4247-8B9F-3CF81C603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58720" y="4430880"/>
            <a:ext cx="59943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f1209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34880" y="5159520"/>
            <a:ext cx="3207960" cy="4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spcBef>
                <a:spcPts val="1925"/>
              </a:spcBef>
              <a:spcAft>
                <a:spcPts val="19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603760" y="5159520"/>
            <a:ext cx="3207960" cy="4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spcBef>
                <a:spcPts val="1925"/>
              </a:spcBef>
              <a:spcAft>
                <a:spcPts val="19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234880" y="5633640"/>
            <a:ext cx="3207960" cy="4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spcBef>
                <a:spcPts val="1925"/>
              </a:spcBef>
              <a:spcAft>
                <a:spcPts val="19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603760" y="5633640"/>
            <a:ext cx="3207960" cy="4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spcBef>
                <a:spcPts val="1925"/>
              </a:spcBef>
              <a:spcAft>
                <a:spcPts val="19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FCBE-C924-48F9-89E6-1F61C2A1C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58720" y="4430880"/>
            <a:ext cx="59943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f1209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34880" y="5159520"/>
            <a:ext cx="2116440" cy="4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6000"/>
          </a:bodyPr>
          <a:p>
            <a:pPr indent="0">
              <a:spcBef>
                <a:spcPts val="1925"/>
              </a:spcBef>
              <a:spcAft>
                <a:spcPts val="19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457520" y="5159520"/>
            <a:ext cx="2116440" cy="4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6000"/>
          </a:bodyPr>
          <a:p>
            <a:pPr indent="0">
              <a:spcBef>
                <a:spcPts val="1925"/>
              </a:spcBef>
              <a:spcAft>
                <a:spcPts val="19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80160" y="5159520"/>
            <a:ext cx="2116440" cy="4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6000"/>
          </a:bodyPr>
          <a:p>
            <a:pPr indent="0">
              <a:spcBef>
                <a:spcPts val="1925"/>
              </a:spcBef>
              <a:spcAft>
                <a:spcPts val="19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234880" y="5633640"/>
            <a:ext cx="2116440" cy="4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6000"/>
          </a:bodyPr>
          <a:p>
            <a:pPr indent="0">
              <a:spcBef>
                <a:spcPts val="1925"/>
              </a:spcBef>
              <a:spcAft>
                <a:spcPts val="19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457520" y="5633640"/>
            <a:ext cx="2116440" cy="4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6000"/>
          </a:bodyPr>
          <a:p>
            <a:pPr indent="0">
              <a:spcBef>
                <a:spcPts val="1925"/>
              </a:spcBef>
              <a:spcAft>
                <a:spcPts val="19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80160" y="5633640"/>
            <a:ext cx="2116440" cy="4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6000"/>
          </a:bodyPr>
          <a:p>
            <a:pPr indent="0">
              <a:spcBef>
                <a:spcPts val="1925"/>
              </a:spcBef>
              <a:spcAft>
                <a:spcPts val="19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C7C7-83C3-4314-BF82-73F29C16F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EB3F9-24CC-42D9-A287-FD15955B3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58720" y="4430880"/>
            <a:ext cx="59943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f1209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34880" y="5159520"/>
            <a:ext cx="657396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925"/>
              </a:spcBef>
              <a:spcAft>
                <a:spcPts val="19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DC868-9C1C-4E6A-AAD6-04CDF4345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58720" y="4430880"/>
            <a:ext cx="59943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f1209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34880" y="5159520"/>
            <a:ext cx="657396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25"/>
              </a:spcBef>
              <a:spcAft>
                <a:spcPts val="19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B994D-5AE0-4E58-B3BC-611557F06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58720" y="4430880"/>
            <a:ext cx="59943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f1209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34880" y="5159520"/>
            <a:ext cx="320796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1925"/>
              </a:spcBef>
              <a:spcAft>
                <a:spcPts val="19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603760" y="5159520"/>
            <a:ext cx="320796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1925"/>
              </a:spcBef>
              <a:spcAft>
                <a:spcPts val="19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1B157-DD8E-4485-9C4B-56A3E2B06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58720" y="4430880"/>
            <a:ext cx="59943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f120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E9034-B198-4794-BA89-BF464C191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458720" y="4430880"/>
            <a:ext cx="5994360" cy="39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AC699-A992-4CE0-9F86-778967F3E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58720" y="4430880"/>
            <a:ext cx="59943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f1209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34880" y="5159520"/>
            <a:ext cx="3207960" cy="4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spcBef>
                <a:spcPts val="1925"/>
              </a:spcBef>
              <a:spcAft>
                <a:spcPts val="19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603760" y="5159520"/>
            <a:ext cx="320796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1925"/>
              </a:spcBef>
              <a:spcAft>
                <a:spcPts val="19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34880" y="5633640"/>
            <a:ext cx="3207960" cy="4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spcBef>
                <a:spcPts val="1925"/>
              </a:spcBef>
              <a:spcAft>
                <a:spcPts val="19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F6CE5-033E-4E6C-B8FA-C86850869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58720" y="4430880"/>
            <a:ext cx="59943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f120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234880" y="5159520"/>
            <a:ext cx="657396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925"/>
              </a:spcBef>
              <a:spcAft>
                <a:spcPts val="19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06F1-590D-4F3D-A816-705E2C212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58720" y="4430880"/>
            <a:ext cx="59943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f1209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34880" y="5159520"/>
            <a:ext cx="320796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1925"/>
              </a:spcBef>
              <a:spcAft>
                <a:spcPts val="19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603760" y="5159520"/>
            <a:ext cx="3207960" cy="4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spcBef>
                <a:spcPts val="1925"/>
              </a:spcBef>
              <a:spcAft>
                <a:spcPts val="19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603760" y="5633640"/>
            <a:ext cx="3207960" cy="4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spcBef>
                <a:spcPts val="1925"/>
              </a:spcBef>
              <a:spcAft>
                <a:spcPts val="19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68B53-70AE-4D5A-BEA1-D1982CE54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58720" y="4430880"/>
            <a:ext cx="59943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f1209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34880" y="5159520"/>
            <a:ext cx="3207960" cy="4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spcBef>
                <a:spcPts val="1925"/>
              </a:spcBef>
              <a:spcAft>
                <a:spcPts val="19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603760" y="5159520"/>
            <a:ext cx="3207960" cy="4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spcBef>
                <a:spcPts val="1925"/>
              </a:spcBef>
              <a:spcAft>
                <a:spcPts val="19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34880" y="5633640"/>
            <a:ext cx="6573960" cy="4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>
              <a:spcBef>
                <a:spcPts val="1925"/>
              </a:spcBef>
              <a:spcAft>
                <a:spcPts val="19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2C6F8-BC0D-4EB5-B616-4A5F28C14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58720" y="4430880"/>
            <a:ext cx="59943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f1209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34880" y="5159520"/>
            <a:ext cx="6573960" cy="4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>
              <a:spcBef>
                <a:spcPts val="1925"/>
              </a:spcBef>
              <a:spcAft>
                <a:spcPts val="19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34880" y="5633640"/>
            <a:ext cx="6573960" cy="4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>
              <a:spcBef>
                <a:spcPts val="1925"/>
              </a:spcBef>
              <a:spcAft>
                <a:spcPts val="19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F63E2-5EC6-4D21-8D0A-61A5BA326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58720" y="4430880"/>
            <a:ext cx="59943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f1209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34880" y="5159520"/>
            <a:ext cx="3207960" cy="4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spcBef>
                <a:spcPts val="1925"/>
              </a:spcBef>
              <a:spcAft>
                <a:spcPts val="19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603760" y="5159520"/>
            <a:ext cx="3207960" cy="4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spcBef>
                <a:spcPts val="1925"/>
              </a:spcBef>
              <a:spcAft>
                <a:spcPts val="19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34880" y="5633640"/>
            <a:ext cx="3207960" cy="4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spcBef>
                <a:spcPts val="1925"/>
              </a:spcBef>
              <a:spcAft>
                <a:spcPts val="19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603760" y="5633640"/>
            <a:ext cx="3207960" cy="4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spcBef>
                <a:spcPts val="1925"/>
              </a:spcBef>
              <a:spcAft>
                <a:spcPts val="19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04DA1-0F3D-4409-A0AD-D87380F20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58720" y="4430880"/>
            <a:ext cx="59943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f1209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34880" y="5159520"/>
            <a:ext cx="2116440" cy="4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6000"/>
          </a:bodyPr>
          <a:p>
            <a:pPr indent="0">
              <a:spcBef>
                <a:spcPts val="1925"/>
              </a:spcBef>
              <a:spcAft>
                <a:spcPts val="19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457520" y="5159520"/>
            <a:ext cx="2116440" cy="4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6000"/>
          </a:bodyPr>
          <a:p>
            <a:pPr indent="0">
              <a:spcBef>
                <a:spcPts val="1925"/>
              </a:spcBef>
              <a:spcAft>
                <a:spcPts val="19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80160" y="5159520"/>
            <a:ext cx="2116440" cy="4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6000"/>
          </a:bodyPr>
          <a:p>
            <a:pPr indent="0">
              <a:spcBef>
                <a:spcPts val="1925"/>
              </a:spcBef>
              <a:spcAft>
                <a:spcPts val="19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34880" y="5633640"/>
            <a:ext cx="2116440" cy="4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6000"/>
          </a:bodyPr>
          <a:p>
            <a:pPr indent="0">
              <a:spcBef>
                <a:spcPts val="1925"/>
              </a:spcBef>
              <a:spcAft>
                <a:spcPts val="19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457520" y="5633640"/>
            <a:ext cx="2116440" cy="4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6000"/>
          </a:bodyPr>
          <a:p>
            <a:pPr indent="0">
              <a:spcBef>
                <a:spcPts val="1925"/>
              </a:spcBef>
              <a:spcAft>
                <a:spcPts val="19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680160" y="5633640"/>
            <a:ext cx="2116440" cy="4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6000"/>
          </a:bodyPr>
          <a:p>
            <a:pPr indent="0">
              <a:spcBef>
                <a:spcPts val="1925"/>
              </a:spcBef>
              <a:spcAft>
                <a:spcPts val="19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B966B-4E9E-4AB7-89C5-429E49218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58720" y="4430880"/>
            <a:ext cx="59943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f120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34880" y="5159520"/>
            <a:ext cx="657396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25"/>
              </a:spcBef>
              <a:spcAft>
                <a:spcPts val="19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9525-F9E4-4774-B664-C4C2088A4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58720" y="4430880"/>
            <a:ext cx="59943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f1209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34880" y="5159520"/>
            <a:ext cx="320796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1925"/>
              </a:spcBef>
              <a:spcAft>
                <a:spcPts val="19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603760" y="5159520"/>
            <a:ext cx="320796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1925"/>
              </a:spcBef>
              <a:spcAft>
                <a:spcPts val="19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0BB6-C8D9-430B-95FE-7EAA3F373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58720" y="4430880"/>
            <a:ext cx="59943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f120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383C-6173-4ABF-B43E-518B60B0C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58720" y="4430880"/>
            <a:ext cx="5994360" cy="39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611E-7EC3-4F4E-8E74-85628F21C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58720" y="4430880"/>
            <a:ext cx="59943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f1209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34880" y="5159520"/>
            <a:ext cx="3207960" cy="4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spcBef>
                <a:spcPts val="1925"/>
              </a:spcBef>
              <a:spcAft>
                <a:spcPts val="19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603760" y="5159520"/>
            <a:ext cx="320796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1925"/>
              </a:spcBef>
              <a:spcAft>
                <a:spcPts val="19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234880" y="5633640"/>
            <a:ext cx="3207960" cy="4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spcBef>
                <a:spcPts val="1925"/>
              </a:spcBef>
              <a:spcAft>
                <a:spcPts val="19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B4F4-3145-4878-8C36-710699896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58720" y="4430880"/>
            <a:ext cx="59943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f1209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34880" y="5159520"/>
            <a:ext cx="320796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1925"/>
              </a:spcBef>
              <a:spcAft>
                <a:spcPts val="19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603760" y="5159520"/>
            <a:ext cx="3207960" cy="4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spcBef>
                <a:spcPts val="1925"/>
              </a:spcBef>
              <a:spcAft>
                <a:spcPts val="19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603760" y="5633640"/>
            <a:ext cx="3207960" cy="4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spcBef>
                <a:spcPts val="1925"/>
              </a:spcBef>
              <a:spcAft>
                <a:spcPts val="19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2367-ACA6-4480-B2FB-8E48CDBB6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58720" y="4430880"/>
            <a:ext cx="59943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f1209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34880" y="5159520"/>
            <a:ext cx="3207960" cy="4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spcBef>
                <a:spcPts val="1925"/>
              </a:spcBef>
              <a:spcAft>
                <a:spcPts val="19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603760" y="5159520"/>
            <a:ext cx="3207960" cy="4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spcBef>
                <a:spcPts val="1925"/>
              </a:spcBef>
              <a:spcAft>
                <a:spcPts val="19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234880" y="5633640"/>
            <a:ext cx="6573960" cy="4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>
              <a:spcBef>
                <a:spcPts val="1925"/>
              </a:spcBef>
              <a:spcAft>
                <a:spcPts val="19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B9E1-35E9-4DA7-A024-7565B996F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8744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409760" y="287280"/>
            <a:ext cx="740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1209"/>
                </a:solidFill>
                <a:latin typeface="Arial Black"/>
              </a:rPr>
              <a:t>Dropped Objects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 Who’s Responsi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09760" y="601200"/>
            <a:ext cx="76039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2728440"/>
            <a:ext cx="7772400" cy="33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75960" y="6705360"/>
            <a:ext cx="19047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705360"/>
            <a:ext cx="28958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162560" y="6705360"/>
            <a:ext cx="19047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C99CB-B7EE-4FD7-9808-D633F8A5A85D}" type="slidenum">
              <a:rPr b="0" lang="en-GB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58720" y="4430880"/>
            <a:ext cx="59943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f1209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ef1209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75960" y="6705360"/>
            <a:ext cx="19047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705360"/>
            <a:ext cx="28958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162560" y="6705360"/>
            <a:ext cx="19047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85034-4BC4-4C30-9DAA-304C28BC91C4}" type="slidenum">
              <a:rPr b="0" lang="en-GB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0797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25"/>
              </a:spcBef>
              <a:spcAft>
                <a:spcPts val="19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788"/>
              </a:spcBef>
              <a:spcAft>
                <a:spcPts val="7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www.dropsworkpack.com/" TargetMode="External"/><Relationship Id="rId2" Type="http://schemas.openxmlformats.org/officeDocument/2006/relationships/image" Target="../media/image47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98040" y="4129200"/>
            <a:ext cx="75517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f1209"/>
                </a:solidFill>
                <a:latin typeface="Arial Black"/>
              </a:rPr>
              <a:t>Fallende gjenstander</a:t>
            </a:r>
            <a:endParaRPr b="0" lang="en-US" sz="4400" spc="-1" strike="noStrike">
              <a:solidFill>
                <a:srgbClr val="ef1209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5760" y="4826160"/>
            <a:ext cx="657396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925"/>
              </a:spcBef>
              <a:spcAft>
                <a:spcPts val="19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vem har ansvaret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2768760"/>
            <a:ext cx="9144000" cy="84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1387440"/>
            <a:ext cx="9144000" cy="54705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09760" y="601200"/>
            <a:ext cx="76039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Ansvar i alle ledd i forsyningskjed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0400" y="1982880"/>
            <a:ext cx="7948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 Black"/>
              </a:rPr>
              <a:t>Pakking 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– utstyr pakket på uegnet måte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572000" y="2711520"/>
            <a:ext cx="2109960" cy="1801800"/>
            <a:chOff x="4572000" y="2711520"/>
            <a:chExt cx="2109960" cy="1801800"/>
          </a:xfrm>
        </p:grpSpPr>
        <p:pic>
          <p:nvPicPr>
            <p:cNvPr id="128" name="" descr=""/>
            <p:cNvPicPr/>
            <p:nvPr/>
          </p:nvPicPr>
          <p:blipFill>
            <a:blip r:embed="rId2"/>
            <a:stretch/>
          </p:blipFill>
          <p:spPr>
            <a:xfrm>
              <a:off x="4578480" y="2720880"/>
              <a:ext cx="2092320" cy="1792440"/>
            </a:xfrm>
            <a:prstGeom prst="rect">
              <a:avLst/>
            </a:prstGeom>
            <a:ln w="25560">
              <a:solidFill>
                <a:srgbClr val="ffffff"/>
              </a:solidFill>
              <a:miter/>
            </a:ln>
          </p:spPr>
        </p:pic>
        <p:sp>
          <p:nvSpPr>
            <p:cNvPr id="129" name=""/>
            <p:cNvSpPr/>
            <p:nvPr/>
          </p:nvSpPr>
          <p:spPr>
            <a:xfrm>
              <a:off x="4572000" y="2711520"/>
              <a:ext cx="2109960" cy="315720"/>
            </a:xfrm>
            <a:prstGeom prst="rect">
              <a:avLst/>
            </a:prstGeom>
            <a:solidFill>
              <a:srgbClr val="4d4d4d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ffffff"/>
                  </a:solidFill>
                  <a:latin typeface="Arial"/>
                </a:rPr>
                <a:t>Eske  uten varselmerking for tungt innhold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617400" y="4492800"/>
            <a:ext cx="410544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4040" indent="-2840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bed1"/>
                </a:solidFill>
                <a:latin typeface="Arial"/>
              </a:rPr>
              <a:t>Årsak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Uegnet pakkepros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anglende kontroll av last før utskiping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803920" y="4334040"/>
            <a:ext cx="2635200" cy="1858680"/>
            <a:chOff x="5803920" y="4334040"/>
            <a:chExt cx="2635200" cy="1858680"/>
          </a:xfrm>
        </p:grpSpPr>
        <p:pic>
          <p:nvPicPr>
            <p:cNvPr id="132" name="" descr=""/>
            <p:cNvPicPr/>
            <p:nvPr/>
          </p:nvPicPr>
          <p:blipFill>
            <a:blip r:embed="rId3"/>
            <a:stretch/>
          </p:blipFill>
          <p:spPr>
            <a:xfrm>
              <a:off x="5810400" y="4334040"/>
              <a:ext cx="2628720" cy="1858680"/>
            </a:xfrm>
            <a:prstGeom prst="rect">
              <a:avLst/>
            </a:prstGeom>
            <a:ln w="25560">
              <a:solidFill>
                <a:srgbClr val="ffffff"/>
              </a:solidFill>
              <a:miter/>
            </a:ln>
          </p:spPr>
        </p:pic>
        <p:sp>
          <p:nvSpPr>
            <p:cNvPr id="133" name=""/>
            <p:cNvSpPr/>
            <p:nvPr/>
          </p:nvSpPr>
          <p:spPr>
            <a:xfrm>
              <a:off x="5803920" y="5865840"/>
              <a:ext cx="2635200" cy="315720"/>
            </a:xfrm>
            <a:prstGeom prst="rect">
              <a:avLst/>
            </a:prstGeom>
            <a:solidFill>
              <a:srgbClr val="4d4d4d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ffffff"/>
                  </a:solidFill>
                  <a:latin typeface="Arial"/>
                </a:rPr>
                <a:t>Esken inneholdt hydraulisk pumpe på ca.  30 kg </a:t>
              </a:r>
              <a:br>
                <a:rPr sz="800"/>
              </a:b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617400" y="2716200"/>
            <a:ext cx="362592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6760" indent="-26676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Utstyr pakket på uegnet måte ble  transportert offsho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appesken veide ca. 40 k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nholdet falt ut under transport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400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500"/>
                            </p:stCondLst>
                            <p:childTnLst>
                              <p:par>
                                <p:cTn id="21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70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85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1387440"/>
            <a:ext cx="9144000" cy="547056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09760" y="601200"/>
            <a:ext cx="76039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Ansvar i alle ledd i forsyningskjed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17040" y="2716200"/>
            <a:ext cx="3000600" cy="17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Kompressor med ødelagt  Weco-kopling pakket i  ram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Koplingen stakk ut av rammen og ble kuttet av under transpor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90400" y="1982880"/>
            <a:ext cx="80488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 Black"/>
              </a:rPr>
              <a:t>Pakking 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– kopling kuttet av under transport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17400" y="4599000"/>
            <a:ext cx="27972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bed1"/>
                </a:solidFill>
                <a:latin typeface="Arial"/>
              </a:rPr>
              <a:t>Årsak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årlig konstruksjo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årlig pakk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Uaktsomhet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805200" y="2724120"/>
            <a:ext cx="4633920" cy="346860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</p:spTree>
  </p:cSld>
  <p:transition>
    <p:wipe dir="r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50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65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800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1387440"/>
            <a:ext cx="9144000" cy="547056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09760" y="601200"/>
            <a:ext cx="76039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Ansvar i alle ledd i forsyningskjed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90400" y="1982880"/>
            <a:ext cx="4932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 Black"/>
              </a:rPr>
              <a:t>Veitransport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17400" y="2716200"/>
            <a:ext cx="1530360" cy="24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9bed1"/>
                </a:solidFill>
                <a:latin typeface="Arial"/>
              </a:rPr>
              <a:t>Ansv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9bed1"/>
                </a:solidFill>
                <a:latin typeface="Arial"/>
              </a:rPr>
              <a:t>Fa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9bed1"/>
                </a:solidFill>
                <a:latin typeface="Arial"/>
              </a:rPr>
              <a:t>Kontroller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9bed1"/>
                </a:solidFill>
                <a:latin typeface="Arial"/>
              </a:rPr>
              <a:t>Vurd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62160" y="2716200"/>
            <a:ext cx="6399360" cy="24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jåfø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Løse gjenstander, dårlig sikret la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Kompetent personell, prosedyrer, informasjon, instruksjon, </a:t>
            </a:r>
            <a:br>
              <a:rPr sz="1600"/>
            </a:b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pplæring og tilsyn, kvalitetskontrol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krot, verktøy, løse gjenstander, gaffelspor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500"/>
                            </p:stCondLst>
                            <p:childTnLst>
                              <p:par>
                                <p:cTn id="27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4000"/>
                            </p:stCondLst>
                            <p:childTnLst>
                              <p:par>
                                <p:cTn id="27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5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1387440"/>
            <a:ext cx="9144000" cy="547056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09760" y="601200"/>
            <a:ext cx="76039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Ansvar i alle ledd i forsyningskjed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17400" y="2715840"/>
            <a:ext cx="256536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788"/>
              </a:spcBef>
              <a:spcAft>
                <a:spcPts val="788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Hammer og meisel funnet oppå container før løf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90400" y="1982880"/>
            <a:ext cx="8028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 Black"/>
              </a:rPr>
              <a:t>Transport 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– gjenstander funnet oppå container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392640" y="2743200"/>
            <a:ext cx="5046480" cy="344664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151" name=""/>
          <p:cNvSpPr/>
          <p:nvPr/>
        </p:nvSpPr>
        <p:spPr>
          <a:xfrm>
            <a:off x="617400" y="3774960"/>
            <a:ext cx="2570400" cy="20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bed1"/>
                </a:solidFill>
                <a:latin typeface="Arial"/>
              </a:rPr>
              <a:t>Årsak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Uaktsomhet fra personen som brukte verktøye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anglende kontroll av last før utskiping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000"/>
                            </p:stCondLst>
                            <p:childTnLst>
                              <p:par>
                                <p:cTn id="29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35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1387440"/>
            <a:ext cx="9144000" cy="547056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09760" y="601200"/>
            <a:ext cx="76039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Ansvar i alle ledd i forsyningskjed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7040" y="2715840"/>
            <a:ext cx="25830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788"/>
              </a:spcBef>
              <a:spcAft>
                <a:spcPts val="788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t stykke treverk funnet oppå container før løf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0400" y="1982880"/>
            <a:ext cx="7948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 Black"/>
              </a:rPr>
              <a:t>Transport 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- gjenstander funnet oppå container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3360600" y="2725560"/>
            <a:ext cx="5078520" cy="346716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157" name=""/>
          <p:cNvSpPr/>
          <p:nvPr/>
        </p:nvSpPr>
        <p:spPr>
          <a:xfrm>
            <a:off x="617400" y="3768840"/>
            <a:ext cx="250524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4040" indent="-2840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bed1"/>
                </a:solidFill>
                <a:latin typeface="Arial"/>
              </a:rPr>
              <a:t>Årsak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Uaktsomhe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anglende kontroll av last før utskiping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2000"/>
                            </p:stCondLst>
                            <p:childTnLst>
                              <p:par>
                                <p:cTn id="3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500"/>
                            </p:stCondLst>
                            <p:childTnLst>
                              <p:par>
                                <p:cTn id="32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1387440"/>
            <a:ext cx="9144000" cy="547056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09760" y="601200"/>
            <a:ext cx="76039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Ansvar i alle ledd i forsyningskjed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90400" y="1982880"/>
            <a:ext cx="2619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 Black"/>
              </a:rPr>
              <a:t>Ved kai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7400" y="2716200"/>
            <a:ext cx="1530360" cy="27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9bed1"/>
                </a:solidFill>
                <a:latin typeface="Arial"/>
              </a:rPr>
              <a:t>Ansv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9bed1"/>
                </a:solidFill>
                <a:latin typeface="Arial"/>
              </a:rPr>
              <a:t>Fa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spcAft>
                <a:spcPts val="4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9bed1"/>
                </a:solidFill>
                <a:latin typeface="Arial"/>
              </a:rPr>
              <a:t>Kontroller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9bed1"/>
                </a:solidFill>
                <a:latin typeface="Arial"/>
              </a:rPr>
              <a:t>Vurd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62160" y="2716200"/>
            <a:ext cx="6399360" cy="26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Laste-/losseansvarli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Last skadet under løft, forskyving av gjenstander, løse gjenstander, </a:t>
            </a:r>
            <a:br>
              <a:rPr sz="1600"/>
            </a:b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årlig sikret la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Kompetent personell, prosedyrer, kvalitetskontroll, retningslinjer for lasthåndtering, informasjon, instruksjon, opplæring og tilsy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krot, verktøy, løse gjenstander, gaffelspor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500"/>
                            </p:stCondLst>
                            <p:childTnLst>
                              <p:par>
                                <p:cTn id="34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4000"/>
                            </p:stCondLst>
                            <p:childTnLst>
                              <p:par>
                                <p:cTn id="3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5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1387440"/>
            <a:ext cx="9144000" cy="547056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09760" y="601200"/>
            <a:ext cx="76039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Ansvar i alle ledd i forsyningskjed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7400" y="2715840"/>
            <a:ext cx="223200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Løsmasser funnet i gaffelspo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0400" y="1982880"/>
            <a:ext cx="78962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 Black"/>
              </a:rPr>
              <a:t>Ved kai 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– løsmasser funnet i gaffelspor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3244680" y="2727360"/>
            <a:ext cx="5194440" cy="346536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168" name=""/>
          <p:cNvSpPr/>
          <p:nvPr/>
        </p:nvSpPr>
        <p:spPr>
          <a:xfrm>
            <a:off x="617400" y="3481560"/>
            <a:ext cx="2432160" cy="17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bed1"/>
                </a:solidFill>
                <a:latin typeface="Arial"/>
              </a:rPr>
              <a:t>Årsak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Uegnet lagringspla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anglende kontroll av last før utskiping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2000"/>
                            </p:stCondLst>
                            <p:childTnLst>
                              <p:par>
                                <p:cTn id="37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3500"/>
                            </p:stCondLst>
                            <p:childTnLst>
                              <p:par>
                                <p:cTn id="37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0"/>
                            </p:stCondLst>
                            <p:childTnLst>
                              <p:par>
                                <p:cTn id="37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1387440"/>
            <a:ext cx="9144000" cy="54705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09760" y="601200"/>
            <a:ext cx="76039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Ansvar i alle ledd i forsyningskjed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90400" y="1982880"/>
            <a:ext cx="4816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 Black"/>
              </a:rPr>
              <a:t>Sjøtransport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17400" y="2716200"/>
            <a:ext cx="1530360" cy="31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9bed1"/>
                </a:solidFill>
                <a:latin typeface="Arial"/>
              </a:rPr>
              <a:t>Ansv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9bed1"/>
                </a:solidFill>
                <a:latin typeface="Arial"/>
              </a:rPr>
              <a:t>Fa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spcAft>
                <a:spcPts val="4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9bed1"/>
                </a:solidFill>
                <a:latin typeface="Arial"/>
              </a:rPr>
              <a:t>Kontroller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9bed1"/>
                </a:solidFill>
                <a:latin typeface="Arial"/>
              </a:rPr>
              <a:t>Vurd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162160" y="2716200"/>
            <a:ext cx="6399360" cy="31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Kapte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Last skadet under løft/transport, foskyving av gjenstander, </a:t>
            </a:r>
            <a:br>
              <a:rPr sz="1600"/>
            </a:b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løse gjenstander,dårlig sikret la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Kompetent personell, prosedyrer, kvalitetskontroll, retningslinjer for lasthåndtering, informasjon, instruksjon, opplæring og tilsyn, kvalitetskontrol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krot, verktøy, løse gjenstander, gaffelspor, </a:t>
            </a:r>
            <a:br>
              <a:rPr sz="1600"/>
            </a:b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ikre/kontrollerte områder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2500"/>
                            </p:stCondLst>
                            <p:childTnLst>
                              <p:par>
                                <p:cTn id="39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40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500"/>
                            </p:stCondLst>
                            <p:childTnLst>
                              <p:par>
                                <p:cTn id="40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1387440"/>
            <a:ext cx="9144000" cy="547056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09760" y="601200"/>
            <a:ext cx="76039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Ansvar i alle ledd i forsyningskjed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90400" y="1982880"/>
            <a:ext cx="8055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 Black"/>
              </a:rPr>
              <a:t>Sjøtransport 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– gjenstand etterlatt oppå enhet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17400" y="4410000"/>
            <a:ext cx="2872080" cy="178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4040" indent="-28404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bed1"/>
                </a:solidFill>
                <a:latin typeface="Arial"/>
              </a:rPr>
              <a:t>Årsak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anglende oppmerksomhet fra vedlikeholdspersonellets si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anglende kontroll av last før utskiping.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3633840" y="2722680"/>
            <a:ext cx="4805280" cy="347004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179" name=""/>
          <p:cNvSpPr/>
          <p:nvPr/>
        </p:nvSpPr>
        <p:spPr>
          <a:xfrm>
            <a:off x="617400" y="2716200"/>
            <a:ext cx="284508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6760" indent="-26676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 temperaturmåler brukt til måling av avgasstemperatur var etterlatt oppå en enhe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åleren veide ca. 0,25 kg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2000"/>
                            </p:stCondLst>
                            <p:childTnLst>
                              <p:par>
                                <p:cTn id="4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3500"/>
                            </p:stCondLst>
                            <p:childTnLst>
                              <p:par>
                                <p:cTn id="42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5000"/>
                            </p:stCondLst>
                            <p:childTnLst>
                              <p:par>
                                <p:cTn id="42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6500"/>
                            </p:stCondLst>
                            <p:childTnLst>
                              <p:par>
                                <p:cTn id="43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1387440"/>
            <a:ext cx="9144000" cy="547056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09760" y="601200"/>
            <a:ext cx="76039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Ansvar i alle ledd i forsyningskjed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90400" y="1982880"/>
            <a:ext cx="4572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 Black"/>
              </a:rPr>
              <a:t>Installasjon/ferdigstillelse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17400" y="2716200"/>
            <a:ext cx="1530360" cy="31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9bed1"/>
                </a:solidFill>
                <a:latin typeface="Arial"/>
              </a:rPr>
              <a:t>Ansv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9bed1"/>
                </a:solidFill>
                <a:latin typeface="Arial"/>
              </a:rPr>
              <a:t>Fa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9bed1"/>
                </a:solidFill>
                <a:latin typeface="Arial"/>
              </a:rPr>
              <a:t>Kontroller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spcAft>
                <a:spcPts val="4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9bed1"/>
                </a:solidFill>
                <a:latin typeface="Arial"/>
              </a:rPr>
              <a:t>Vurd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162160" y="2716200"/>
            <a:ext cx="6399360" cy="33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lattformsje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Fallende gjenstander under installasjon, feilinstallasjon, </a:t>
            </a:r>
            <a:br>
              <a:rPr sz="1600"/>
            </a:b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utstyr støtt ut under drift/utprøving, forskyving av gjenstander, </a:t>
            </a:r>
            <a:br>
              <a:rPr sz="1600"/>
            </a:b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løse gjenstander, dårlig sikret la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Kompetent personell, sikker arbeidspraksis, </a:t>
            </a:r>
            <a:br>
              <a:rPr sz="1600"/>
            </a:b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kontruksjon av utstyr, informasjon </a:t>
            </a:r>
            <a:br>
              <a:rPr sz="1600"/>
            </a:b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struksjon, opplæring og tilsy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krot, verktøy, løse gjenstander, verktøysett for arbeid i høyden,</a:t>
            </a:r>
            <a:br>
              <a:rPr sz="1600"/>
            </a:b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ikre/kontrollerte områder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4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2500"/>
                            </p:stCondLst>
                            <p:childTnLst>
                              <p:par>
                                <p:cTn id="4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400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550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09760" y="601200"/>
            <a:ext cx="76039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nledning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tter at Dropped Objects Forum ble lansert har en av dets største utfordringer vært oppfatningen av at fallende gjenstander bare er et problem innen bor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enne presentasjonen er utarbeidet av bransjens DROPS Forum. Vi vil takke dem som har bidratt. Dersom denne informasjonen kan bidra til å forhindre en eneste hendelse, har innsatsen vært verd de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1387440"/>
            <a:ext cx="9144000" cy="547056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09760" y="601200"/>
            <a:ext cx="76039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Ansvar i alle ledd i forsyningskjed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7400" y="2716200"/>
            <a:ext cx="289584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80000"/>
              </a:lnSpc>
              <a:spcBef>
                <a:spcPts val="788"/>
              </a:spcBef>
              <a:spcAft>
                <a:spcPts val="3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Luftregulator montert på  kabeltalj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788"/>
              </a:spcBef>
              <a:spcAft>
                <a:spcPts val="3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Ikke konstruert for bruk i høyd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788"/>
              </a:spcBef>
              <a:spcAft>
                <a:spcPts val="3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ikringsanordning ikke påsat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788"/>
              </a:spcBef>
              <a:spcAft>
                <a:spcPts val="3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Når regulatoren ble satt på spratt deksel og innmat (230 gr) av og falt 10 m til boredek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788"/>
              </a:spcBef>
              <a:spcAft>
                <a:spcPts val="3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Ingen ble skade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3880" y="1982880"/>
            <a:ext cx="86248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 Black"/>
              </a:rPr>
              <a:t>Installasjon/ferdigstillelse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gjenstand ikke konstruert for bruk i høyden</a:t>
            </a: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17400" y="5254560"/>
            <a:ext cx="2976840" cy="9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Bef>
                <a:spcPts val="9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bed1"/>
                </a:solidFill>
                <a:latin typeface="Arial"/>
              </a:rPr>
              <a:t>Årsak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901"/>
              </a:spcBef>
              <a:spcAft>
                <a:spcPts val="400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Utstyret var uegnet for bruk i høyde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635280" y="2725560"/>
            <a:ext cx="4803840" cy="346716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</p:spTree>
  </p:cSld>
  <p:transition>
    <p:wipe dir="r"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2000"/>
                            </p:stCondLst>
                            <p:childTnLst>
                              <p:par>
                                <p:cTn id="47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3500"/>
                            </p:stCondLst>
                            <p:childTnLst>
                              <p:par>
                                <p:cTn id="47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6500"/>
                            </p:stCondLst>
                            <p:childTnLst>
                              <p:par>
                                <p:cTn id="48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8000"/>
                            </p:stCondLst>
                            <p:childTnLst>
                              <p:par>
                                <p:cTn id="49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9500"/>
                            </p:stCondLst>
                            <p:childTnLst>
                              <p:par>
                                <p:cTn id="4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1387440"/>
            <a:ext cx="9144000" cy="54705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17400" y="2716200"/>
            <a:ext cx="30225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Under en sammenkopling løsnet en bit (0,4 kg) av kjeden på kompensatorlink på DDM og falt (33 m) til boredek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gen personer i nærhete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17400" y="4611600"/>
            <a:ext cx="452124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bed1"/>
                </a:solidFill>
                <a:latin typeface="Arial"/>
              </a:rPr>
              <a:t>Årsak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Kjeden var rusten og hadde en gammel sprek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Kun visuell kontroll utfør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Kompensatorlinken ble ikke deaktivert før strengen ble løftet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656160" y="2720880"/>
            <a:ext cx="2797200" cy="141948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5668920" y="3938760"/>
            <a:ext cx="2770200" cy="225396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196" name=""/>
          <p:cNvSpPr/>
          <p:nvPr/>
        </p:nvSpPr>
        <p:spPr>
          <a:xfrm>
            <a:off x="590400" y="1982880"/>
            <a:ext cx="80758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 Black"/>
              </a:rPr>
              <a:t>Installasjon/ferdigstillelse </a:t>
            </a:r>
            <a:r>
              <a:rPr b="0" lang="nb-NO" sz="2100" spc="-1" strike="noStrike">
                <a:solidFill>
                  <a:srgbClr val="ffffff"/>
                </a:solidFill>
                <a:latin typeface="Arial"/>
              </a:rPr>
              <a:t>– kjetting falt til boredekket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09760" y="601200"/>
            <a:ext cx="76039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Ansvar i alle ledd i forsyningskjed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0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500"/>
                            </p:stCondLst>
                            <p:childTnLst>
                              <p:par>
                                <p:cTn id="50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000"/>
                            </p:stCondLst>
                            <p:childTnLst>
                              <p:par>
                                <p:cTn id="51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2500"/>
                            </p:stCondLst>
                            <p:childTnLst>
                              <p:par>
                                <p:cTn id="51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4000"/>
                            </p:stCondLst>
                            <p:childTnLst>
                              <p:par>
                                <p:cTn id="51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5500"/>
                            </p:stCondLst>
                            <p:childTnLst>
                              <p:par>
                                <p:cTn id="52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7000"/>
                            </p:stCondLst>
                            <p:childTnLst>
                              <p:par>
                                <p:cTn id="52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8500"/>
                            </p:stCondLst>
                            <p:childTnLst>
                              <p:par>
                                <p:cTn id="53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1387440"/>
            <a:ext cx="9144000" cy="54705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617400" y="2716200"/>
            <a:ext cx="4654800" cy="17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Bef>
                <a:spcPts val="1001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Under kjøring av “riser” falt et 1 meter langt stykke treverk (2 kg) ned på boredekk. Høyden er ikke kjent siden ingen hadde sett trestykket på “riseren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1001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Flere personer arbeidet på boredekk – ingen ble skade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17400" y="4410000"/>
            <a:ext cx="4097520" cy="11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bed1"/>
                </a:solidFill>
                <a:latin typeface="Arial"/>
              </a:rPr>
              <a:t>Årsak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1001"/>
              </a:spcBef>
              <a:spcAft>
                <a:spcPts val="300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Uforsiktighe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1001"/>
              </a:spcBef>
              <a:spcAft>
                <a:spcPts val="300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anglende kontroll av last før løft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5149800" y="3759120"/>
            <a:ext cx="3289320" cy="243360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202" name=""/>
          <p:cNvSpPr/>
          <p:nvPr/>
        </p:nvSpPr>
        <p:spPr>
          <a:xfrm>
            <a:off x="590400" y="1982880"/>
            <a:ext cx="83948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 Black"/>
              </a:rPr>
              <a:t>Installasjon/ferdigstillelse </a:t>
            </a:r>
            <a:r>
              <a:rPr b="0" lang="nb-NO" sz="21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gjenstand falt fra stigerør til boredek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09760" y="601200"/>
            <a:ext cx="76039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Ansvar i alle ledd i forsyningskjed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0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500"/>
                            </p:stCondLst>
                            <p:childTnLst>
                              <p:par>
                                <p:cTn id="54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2000"/>
                            </p:stCondLst>
                            <p:childTnLst>
                              <p:par>
                                <p:cTn id="54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3500"/>
                            </p:stCondLst>
                            <p:childTnLst>
                              <p:par>
                                <p:cTn id="54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5000"/>
                            </p:stCondLst>
                            <p:childTnLst>
                              <p:par>
                                <p:cTn id="55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6500"/>
                            </p:stCondLst>
                            <p:childTnLst>
                              <p:par>
                                <p:cTn id="55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1387440"/>
            <a:ext cx="9144000" cy="547056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09760" y="601200"/>
            <a:ext cx="76039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Ansvar i alle ledd i forsyningskjed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90400" y="1982880"/>
            <a:ext cx="2619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 Black"/>
              </a:rPr>
              <a:t>Drift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17400" y="2716200"/>
            <a:ext cx="1530360" cy="29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9bed1"/>
                </a:solidFill>
                <a:latin typeface="Arial"/>
              </a:rPr>
              <a:t>Ansv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9bed1"/>
                </a:solidFill>
                <a:latin typeface="Arial"/>
              </a:rPr>
              <a:t>Fa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spcAft>
                <a:spcPts val="4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9bed1"/>
                </a:solidFill>
                <a:latin typeface="Arial"/>
              </a:rPr>
              <a:t>Kontroller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spcAft>
                <a:spcPts val="4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9bed1"/>
                </a:solidFill>
                <a:latin typeface="Arial"/>
              </a:rPr>
              <a:t>Vurd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162160" y="2716200"/>
            <a:ext cx="6399360" cy="29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lattformsje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Fallende gjenstander under drift, feilinstallasjon, </a:t>
            </a:r>
            <a:br>
              <a:rPr sz="1600"/>
            </a:b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utstyr støtes ut under drift, gjenstander løsner pga. vibrasj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Kompetent personell, sikker arbeidspraksis, utstyrets konstruksjon, informasjon, instruksjon, opplæring og tilsy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Barrierer, skilt, vedlikehold, skrot, verktøy, løse gjenstander, </a:t>
            </a:r>
            <a:br>
              <a:rPr sz="1600"/>
            </a:b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ikre/kontrollerte områder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500"/>
                            </p:stCondLst>
                            <p:childTnLst>
                              <p:par>
                                <p:cTn id="5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1000"/>
                            </p:stCondLst>
                            <p:childTnLst>
                              <p:par>
                                <p:cTn id="57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2500"/>
                            </p:stCondLst>
                            <p:childTnLst>
                              <p:par>
                                <p:cTn id="57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4000"/>
                            </p:stCondLst>
                            <p:childTnLst>
                              <p:par>
                                <p:cTn id="58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5500"/>
                            </p:stCondLst>
                            <p:childTnLst>
                              <p:par>
                                <p:cTn id="58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5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1387440"/>
            <a:ext cx="9144000" cy="54705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617400" y="2716200"/>
            <a:ext cx="378324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 bolt ble funnet liggende på boredekk, 3 m fra personel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Granskingen viste at en bolt for rullen på “pipe handler” hadde løsnet,  mutteren hadde falt av bolten.  Rullen (750 g) ble funnet løs på rullens gripehodet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17400" y="4857840"/>
            <a:ext cx="36640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bed1"/>
                </a:solidFill>
                <a:latin typeface="Arial"/>
              </a:rPr>
              <a:t>Årsak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vikt i låseskiv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årlig konstruksjo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4572000" y="2720880"/>
            <a:ext cx="2179800" cy="188928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6018120" y="4379760"/>
            <a:ext cx="2421000" cy="181296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214" name=""/>
          <p:cNvSpPr/>
          <p:nvPr/>
        </p:nvSpPr>
        <p:spPr>
          <a:xfrm>
            <a:off x="590400" y="1982880"/>
            <a:ext cx="72234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 Black"/>
              </a:rPr>
              <a:t>Drift 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- bolt falt 24 m til boredekk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09760" y="601200"/>
            <a:ext cx="76039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Ansvar i alle ledd i forsyningskjed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0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500"/>
                            </p:stCondLst>
                            <p:childTnLst>
                              <p:par>
                                <p:cTn id="59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2500"/>
                            </p:stCondLst>
                            <p:childTnLst>
                              <p:par>
                                <p:cTn id="60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4000"/>
                            </p:stCondLst>
                            <p:childTnLst>
                              <p:par>
                                <p:cTn id="60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5500"/>
                            </p:stCondLst>
                            <p:childTnLst>
                              <p:par>
                                <p:cTn id="61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7000"/>
                            </p:stCondLst>
                            <p:childTnLst>
                              <p:par>
                                <p:cTn id="61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0" y="1387440"/>
            <a:ext cx="9144000" cy="547056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09760" y="601200"/>
            <a:ext cx="76039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Ansvar i alle ledd i forsyningskjed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17040" y="2716200"/>
            <a:ext cx="3103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Bolt falt 6 m fra ”bail retainer” til boredekk, bolten veide 0,5 kg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90400" y="1982880"/>
            <a:ext cx="6696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 Black"/>
              </a:rPr>
              <a:t>Drift 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- bolt falt 6 m til boredekk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17400" y="3605040"/>
            <a:ext cx="3089520" cy="24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bed1"/>
                </a:solidFill>
                <a:latin typeface="Arial"/>
              </a:rPr>
              <a:t>Årsak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612"/>
              </a:spcBef>
              <a:spcAft>
                <a:spcPts val="264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Låsesplinten på bolten var dålig konstruer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612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Låsesplintens fjærmekanisme ble utløst og bolten falt ut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bed1"/>
                </a:solidFill>
                <a:latin typeface="Arial"/>
              </a:rPr>
              <a:t>Vurder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612"/>
              </a:spcBef>
              <a:spcAft>
                <a:spcPts val="264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ikre boltene med strip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Konstruere ny sikring for bolte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5611680" y="2909880"/>
            <a:ext cx="2827440" cy="309420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3978360" y="4556160"/>
            <a:ext cx="2160360" cy="163656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pic>
        <p:nvPicPr>
          <p:cNvPr id="223" name="" descr=""/>
          <p:cNvPicPr/>
          <p:nvPr/>
        </p:nvPicPr>
        <p:blipFill>
          <a:blip r:embed="rId4"/>
          <a:stretch/>
        </p:blipFill>
        <p:spPr>
          <a:xfrm>
            <a:off x="3978360" y="2720880"/>
            <a:ext cx="2160360" cy="163692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</p:spTree>
  </p:cSld>
  <p:transition>
    <p:wipe dir="r"/>
  </p:transition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0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500"/>
                            </p:stCondLst>
                            <p:childTnLst>
                              <p:par>
                                <p:cTn id="62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1000"/>
                            </p:stCondLst>
                            <p:childTnLst>
                              <p:par>
                                <p:cTn id="63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1500"/>
                            </p:stCondLst>
                            <p:childTnLst>
                              <p:par>
                                <p:cTn id="63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3000"/>
                            </p:stCondLst>
                            <p:childTnLst>
                              <p:par>
                                <p:cTn id="63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4500"/>
                            </p:stCondLst>
                            <p:childTnLst>
                              <p:par>
                                <p:cTn id="64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6000"/>
                            </p:stCondLst>
                            <p:childTnLst>
                              <p:par>
                                <p:cTn id="64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8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7500"/>
                            </p:stCondLst>
                            <p:childTnLst>
                              <p:par>
                                <p:cTn id="65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9000"/>
                            </p:stCondLst>
                            <p:childTnLst>
                              <p:par>
                                <p:cTn id="65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5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10500"/>
                            </p:stCondLst>
                            <p:childTnLst>
                              <p:par>
                                <p:cTn id="65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0" dur="5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1387440"/>
            <a:ext cx="9144000" cy="547056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617400" y="2716200"/>
            <a:ext cx="3981600" cy="17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 marL="266760" indent="-26676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Under rengjøring av boredekk ble risten over et avløp fjernet. Risten ble bøyd og en slegge ble brukt til å rette den ut. Under utrettingen brakk sleggeskaftet, og sleggehodet falt over kanten på boredekket og landet på gangstien under. Området under var ikke avsperret, men det var ingen i nærheten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17400" y="4645080"/>
            <a:ext cx="4938840" cy="16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 marL="284040" indent="-2840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GB" sz="1400" spc="-1" strike="noStrike">
                <a:solidFill>
                  <a:srgbClr val="99bed1"/>
                </a:solidFill>
                <a:latin typeface="Arial"/>
              </a:rPr>
              <a:t>Anbefalt tiltak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ikre verktøy når det er fare for at de kan falle til lavere nivå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perr av lavereliggende områder når det utføres arbeid i høyd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kift ut sleggeskaft av tre med komposittmaterial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734080" y="4189320"/>
            <a:ext cx="2705040" cy="200340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4729320" y="2720880"/>
            <a:ext cx="2247840" cy="159228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229" name=""/>
          <p:cNvSpPr/>
          <p:nvPr/>
        </p:nvSpPr>
        <p:spPr>
          <a:xfrm>
            <a:off x="590400" y="1982880"/>
            <a:ext cx="80139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 Black"/>
              </a:rPr>
              <a:t>Drift 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– ødelagt verktøy (7 kg) falt 7 m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409760" y="600120"/>
            <a:ext cx="76039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Ansvar i alle ledd i forsyningskjede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0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500"/>
                            </p:stCondLst>
                            <p:childTnLst>
                              <p:par>
                                <p:cTn id="66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1000"/>
                            </p:stCondLst>
                            <p:childTnLst>
                              <p:par>
                                <p:cTn id="67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5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9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4000"/>
                            </p:stCondLst>
                            <p:childTnLst>
                              <p:par>
                                <p:cTn id="68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5500"/>
                            </p:stCondLst>
                            <p:childTnLst>
                              <p:par>
                                <p:cTn id="68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7000"/>
                            </p:stCondLst>
                            <p:childTnLst>
                              <p:par>
                                <p:cTn id="68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1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0" y="1387440"/>
            <a:ext cx="9144000" cy="547056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617040" y="2715840"/>
            <a:ext cx="504828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1360" indent="-261360">
              <a:lnSpc>
                <a:spcPct val="80000"/>
              </a:lnSpc>
              <a:spcBef>
                <a:spcPts val="649"/>
              </a:spcBef>
              <a:spcAft>
                <a:spcPts val="27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Arial"/>
              </a:rPr>
              <a:t>Under kjøring av “riser” slo en flens på røret  løs en del av  en rist på en arbeidsplattform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261360" indent="-261360">
              <a:lnSpc>
                <a:spcPct val="80000"/>
              </a:lnSpc>
              <a:spcBef>
                <a:spcPts val="649"/>
              </a:spcBef>
              <a:spcAft>
                <a:spcPts val="27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Arial"/>
              </a:rPr>
              <a:t>Risten falt til et lavereliggende nivå og landet 2 m fra en person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261360" indent="-261360">
              <a:lnSpc>
                <a:spcPct val="80000"/>
              </a:lnSpc>
              <a:spcBef>
                <a:spcPts val="649"/>
              </a:spcBef>
              <a:spcAft>
                <a:spcPts val="27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Arial"/>
              </a:rPr>
              <a:t>Det var folk på alle nivåer som skulle se til at “riseren” ikke traff hindringer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17400" y="4041720"/>
            <a:ext cx="461808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bed1"/>
                </a:solidFill>
                <a:latin typeface="Arial"/>
              </a:rPr>
              <a:t>Årsak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Boreassistenten flyttet til et annet nivå uten å varsle borer og hadde oppmerksomheten rettet mot styrekable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rosedyrene ble ikke fulgt – arbeidsplattformen var ikke trukket helt in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erson befant seg innenfor avsperret områd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5802480" y="2720880"/>
            <a:ext cx="2636640" cy="192096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43560" y="4486320"/>
            <a:ext cx="2362320" cy="170640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236" name=""/>
          <p:cNvSpPr/>
          <p:nvPr/>
        </p:nvSpPr>
        <p:spPr>
          <a:xfrm>
            <a:off x="590400" y="1982880"/>
            <a:ext cx="80647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 Black"/>
              </a:rPr>
              <a:t>Drift 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- rist (20 kg) falt 8 m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409760" y="600120"/>
            <a:ext cx="76039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Ansvar i alle ledd i forsyningskjede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0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500"/>
                            </p:stCondLst>
                            <p:childTnLst>
                              <p:par>
                                <p:cTn id="70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1000"/>
                            </p:stCondLst>
                            <p:childTnLst>
                              <p:par>
                                <p:cTn id="70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6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2500"/>
                            </p:stCondLst>
                            <p:childTnLst>
                              <p:par>
                                <p:cTn id="70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4000"/>
                            </p:stCondLst>
                            <p:childTnLst>
                              <p:par>
                                <p:cTn id="71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5500"/>
                            </p:stCondLst>
                            <p:childTnLst>
                              <p:par>
                                <p:cTn id="71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8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7000"/>
                            </p:stCondLst>
                            <p:childTnLst>
                              <p:par>
                                <p:cTn id="72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8500"/>
                            </p:stCondLst>
                            <p:childTnLst>
                              <p:par>
                                <p:cTn id="72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10000"/>
                            </p:stCondLst>
                            <p:childTnLst>
                              <p:par>
                                <p:cTn id="72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0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0" y="1387440"/>
            <a:ext cx="9144000" cy="547056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409760" y="601200"/>
            <a:ext cx="76039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Ansvar i alle ledd i forsyningskjed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90400" y="1982880"/>
            <a:ext cx="45626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 Black"/>
              </a:rPr>
              <a:t>Vedlikehold/reparasjon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17400" y="2716200"/>
            <a:ext cx="1530360" cy="34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9bed1"/>
                </a:solidFill>
                <a:latin typeface="Arial"/>
              </a:rPr>
              <a:t>Ansv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9bed1"/>
                </a:solidFill>
                <a:latin typeface="Arial"/>
              </a:rPr>
              <a:t>Fa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spcAft>
                <a:spcPts val="4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spcAft>
                <a:spcPts val="4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9bed1"/>
                </a:solidFill>
                <a:latin typeface="Arial"/>
              </a:rPr>
              <a:t>Kontroller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9bed1"/>
                </a:solidFill>
                <a:latin typeface="Arial"/>
              </a:rPr>
              <a:t>Vurd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162160" y="2716200"/>
            <a:ext cx="6335640" cy="31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lattformsje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Fallende gjenstander under vedlikehold/reparasjon, feilinstallasjon, utstyr støtes ut under utprøving, gjenstander forskyves, løse gjenstander, utstyrets konstruksjon, prosedyr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Kompetent personell, sikker arbeidspraksis, utstyrets konstruksjon, informasjon, instruksjon, opplæring og tilsy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krot, verktøy, løse gjenstander, verktøysett for arbeid i høyden, </a:t>
            </a:r>
            <a:br>
              <a:rPr sz="1600"/>
            </a:b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ikre/kontrollerte områder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0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500"/>
                            </p:stCondLst>
                            <p:childTnLst>
                              <p:par>
                                <p:cTn id="7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000"/>
                            </p:stCondLst>
                            <p:childTnLst>
                              <p:par>
                                <p:cTn id="74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5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2500"/>
                            </p:stCondLst>
                            <p:childTnLst>
                              <p:par>
                                <p:cTn id="74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9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4000"/>
                            </p:stCondLst>
                            <p:childTnLst>
                              <p:par>
                                <p:cTn id="75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5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5500"/>
                            </p:stCondLst>
                            <p:childTnLst>
                              <p:par>
                                <p:cTn id="75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1387440"/>
            <a:ext cx="9144000" cy="547056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617040" y="2715840"/>
            <a:ext cx="291636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80000"/>
              </a:lnSpc>
              <a:spcBef>
                <a:spcPts val="901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Hammer (0,4 kg) falt 33 m fra arbeidsplattform etter vedlikeholdsarbei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901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gen personer arbeidet i nærhete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90400" y="1982880"/>
            <a:ext cx="80679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 Black"/>
              </a:rPr>
              <a:t>Vedlikehold/reparasjon 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- hammer falt 30 m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17400" y="4375080"/>
            <a:ext cx="2965680" cy="19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4040" indent="-284040">
              <a:lnSpc>
                <a:spcPct val="100000"/>
              </a:lnSpc>
              <a:spcBef>
                <a:spcPts val="901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bed1"/>
                </a:solidFill>
                <a:latin typeface="Arial"/>
              </a:rPr>
              <a:t>Årsak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901"/>
              </a:spcBef>
              <a:spcAft>
                <a:spcPts val="499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Utilstrekkelig risikovurder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901"/>
              </a:spcBef>
              <a:spcAft>
                <a:spcPts val="499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gen sikring av verktøy under arbeid i høyde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3648240" y="2733840"/>
            <a:ext cx="4790880" cy="345888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248" name=""/>
          <p:cNvSpPr/>
          <p:nvPr/>
        </p:nvSpPr>
        <p:spPr>
          <a:xfrm>
            <a:off x="1409760" y="600120"/>
            <a:ext cx="76039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Ansvar i alle ledd i forsyningskjede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0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500"/>
                            </p:stCondLst>
                            <p:childTnLst>
                              <p:par>
                                <p:cTn id="76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7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2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3500"/>
                            </p:stCondLst>
                            <p:childTnLst>
                              <p:par>
                                <p:cTn id="77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6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5000"/>
                            </p:stCondLst>
                            <p:childTnLst>
                              <p:par>
                                <p:cTn id="77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0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6500"/>
                            </p:stCondLst>
                            <p:childTnLst>
                              <p:par>
                                <p:cTn id="7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09760" y="601200"/>
            <a:ext cx="76039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616040"/>
            <a:ext cx="7772400" cy="44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ormålet med denne presentasjonen 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Å vise at  fallende gjenstander kan forekomme hvor som helst i arbeidsmiljøe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Å påpeke at alle, dvs. arbeidsgivere, ansatte, sjåfører, leverandører, designere, vedlikeholdere osv., har et moralsk og juridisk ansvar for å utføre sine oppgaver på en sikker må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Å skaffe til veie tilstrekkelig materiell som kan formidles til relevant personell med sikte på både opplæring og bevisstgjør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0" y="1387440"/>
            <a:ext cx="9144000" cy="547056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09760" y="601200"/>
            <a:ext cx="76039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Ansvar i alle ledd i forsyningskjed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" y="1982880"/>
            <a:ext cx="45705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 Black"/>
              </a:rPr>
              <a:t>Avvikling/demontering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17400" y="2716200"/>
            <a:ext cx="1530360" cy="27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9bed1"/>
                </a:solidFill>
                <a:latin typeface="Arial"/>
              </a:rPr>
              <a:t>Ansv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9bed1"/>
                </a:solidFill>
                <a:latin typeface="Arial"/>
              </a:rPr>
              <a:t>Fa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spcAft>
                <a:spcPts val="4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9bed1"/>
                </a:solidFill>
                <a:latin typeface="Arial"/>
              </a:rPr>
              <a:t>Kontroller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9bed1"/>
                </a:solidFill>
                <a:latin typeface="Arial"/>
              </a:rPr>
              <a:t>Vurd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162160" y="2716200"/>
            <a:ext cx="6399360" cy="31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lattformsje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Fallende gjenstander under demontering, feilinstallasjon, </a:t>
            </a:r>
            <a:br>
              <a:rPr sz="1600"/>
            </a:b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gjenstander forskyves, løse gjenstand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Kompetent personell, sikker arbeidspraksis, </a:t>
            </a:r>
            <a:br>
              <a:rPr sz="1600"/>
            </a:b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utstyrets konstruksjon, informasjon, </a:t>
            </a:r>
            <a:br>
              <a:rPr sz="1600"/>
            </a:b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struksjon, opplæring og tilsy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krot, verktøy, løse gjenstander, verktøysett for arbeid i høyden, </a:t>
            </a:r>
            <a:br>
              <a:rPr sz="1600"/>
            </a:b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ikre/kontrollerte områder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0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500"/>
                            </p:stCondLst>
                            <p:childTnLst>
                              <p:par>
                                <p:cTn id="7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1000"/>
                            </p:stCondLst>
                            <p:childTnLst>
                              <p:par>
                                <p:cTn id="79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9" dur="5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2500"/>
                            </p:stCondLst>
                            <p:childTnLst>
                              <p:par>
                                <p:cTn id="80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3" dur="5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4000"/>
                            </p:stCondLst>
                            <p:childTnLst>
                              <p:par>
                                <p:cTn id="80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7" dur="5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5500"/>
                            </p:stCondLst>
                            <p:childTnLst>
                              <p:par>
                                <p:cTn id="80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1" dur="5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0" y="1387440"/>
            <a:ext cx="9144000" cy="54705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09760" y="601200"/>
            <a:ext cx="76039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Ansvar i alle ledd i forsyningskjed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90400" y="1982880"/>
            <a:ext cx="80884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 Black"/>
              </a:rPr>
              <a:t>Avvikling/demontering 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- nagle falt 7-8 fot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17400" y="2716200"/>
            <a:ext cx="337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spcBef>
                <a:spcPts val="901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agle som var skjult i et stillasrør falt 7-8 fot til dekk og traff nesten stillasbygger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4518000" y="2954160"/>
            <a:ext cx="3919680" cy="284652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259" name=""/>
          <p:cNvSpPr/>
          <p:nvPr/>
        </p:nvSpPr>
        <p:spPr>
          <a:xfrm>
            <a:off x="617400" y="3700440"/>
            <a:ext cx="3722760" cy="27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4040" indent="-284040">
              <a:lnSpc>
                <a:spcPct val="100000"/>
              </a:lnSpc>
              <a:spcBef>
                <a:spcPts val="836"/>
              </a:spcBef>
              <a:spcAft>
                <a:spcPts val="4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99bed1"/>
                </a:solidFill>
                <a:latin typeface="Arial"/>
              </a:rPr>
              <a:t>Årsak: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788"/>
              </a:spcBef>
              <a:spcAft>
                <a:spcPts val="437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Utilstrekkelig risikovurder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788"/>
              </a:spcBef>
              <a:spcAft>
                <a:spcPts val="437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Manglende sikring av verktøy under arbeid i høyd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788"/>
              </a:spcBef>
              <a:spcAft>
                <a:spcPts val="437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Dårlige arbeidsrutiner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836"/>
              </a:spcBef>
              <a:spcAft>
                <a:spcPts val="4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99bed1"/>
                </a:solidFill>
                <a:latin typeface="Arial"/>
              </a:rPr>
              <a:t>Anbefaling: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788"/>
              </a:spcBef>
              <a:spcAft>
                <a:spcPts val="437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Forsyn rørender med blindlok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788"/>
              </a:spcBef>
              <a:spcAft>
                <a:spcPts val="437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ikre verktøy i høyden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0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500"/>
                            </p:stCondLst>
                            <p:childTnLst>
                              <p:par>
                                <p:cTn id="82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2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2000"/>
                            </p:stCondLst>
                            <p:childTnLst>
                              <p:par>
                                <p:cTn id="82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6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3500"/>
                            </p:stCondLst>
                            <p:childTnLst>
                              <p:par>
                                <p:cTn id="82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0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5000"/>
                            </p:stCondLst>
                            <p:childTnLst>
                              <p:par>
                                <p:cTn id="83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4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6500"/>
                            </p:stCondLst>
                            <p:childTnLst>
                              <p:par>
                                <p:cTn id="83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8" dur="5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8000"/>
                            </p:stCondLst>
                            <p:childTnLst>
                              <p:par>
                                <p:cTn id="84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2" dur="5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9500"/>
                            </p:stCondLst>
                            <p:childTnLst>
                              <p:par>
                                <p:cTn id="84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6" dur="500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11000"/>
                            </p:stCondLst>
                            <p:childTnLst>
                              <p:par>
                                <p:cTn id="84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0" dur="500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0" y="1387440"/>
            <a:ext cx="9144000" cy="54705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09760" y="601200"/>
            <a:ext cx="76039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Ansvar i alle ledd i forsyningskjed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90400" y="1982880"/>
            <a:ext cx="2619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 Black"/>
              </a:rPr>
              <a:t>Pakking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17400" y="2716200"/>
            <a:ext cx="1530360" cy="31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9bed1"/>
                </a:solidFill>
                <a:latin typeface="Arial"/>
              </a:rPr>
              <a:t>Ansv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9bed1"/>
                </a:solidFill>
                <a:latin typeface="Arial"/>
              </a:rPr>
              <a:t>Fa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GB" sz="1600" spc="-1" strike="noStrike">
                <a:solidFill>
                  <a:srgbClr val="99bed1"/>
                </a:solidFill>
                <a:latin typeface="Arial"/>
              </a:rPr>
              <a:t>Kontroll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9bed1"/>
                </a:solidFill>
                <a:latin typeface="Arial"/>
              </a:rPr>
              <a:t>Vurd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162160" y="2716200"/>
            <a:ext cx="6399360" cy="31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lattformsje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Fallende gjenstander under pakking, skade på utstyr, </a:t>
            </a:r>
            <a:br>
              <a:rPr sz="1600"/>
            </a:b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uegnet emballasje, gjenstander forskyves, løse gjenstand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Kompetent personell, sikker arbeidspraksis, </a:t>
            </a:r>
            <a:br>
              <a:rPr sz="1600"/>
            </a:b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utstyrets konstruksjon, informasjon, </a:t>
            </a:r>
            <a:br>
              <a:rPr sz="1600"/>
            </a:b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struksjon, opplæring og tilsy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Kvalitetsikringsprosedyrer, skrot, verktøy, løse gjenstander, verktøysett for arbeid i høyden, sikre/kontrollerte områder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fill="hold">
                      <p:stCondLst>
                        <p:cond delay="0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500"/>
                            </p:stCondLst>
                            <p:childTnLst>
                              <p:par>
                                <p:cTn id="8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1000"/>
                            </p:stCondLst>
                            <p:childTnLst>
                              <p:par>
                                <p:cTn id="86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5" dur="5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2500"/>
                            </p:stCondLst>
                            <p:childTnLst>
                              <p:par>
                                <p:cTn id="86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9" dur="5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4000"/>
                            </p:stCondLst>
                            <p:childTnLst>
                              <p:par>
                                <p:cTn id="87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3" dur="5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5500"/>
                            </p:stCondLst>
                            <p:childTnLst>
                              <p:par>
                                <p:cTn id="87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7" dur="500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0" y="1387440"/>
            <a:ext cx="9144000" cy="547056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409760" y="601200"/>
            <a:ext cx="76039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Ansvar i alle ledd i forsyningskjed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17400" y="2715840"/>
            <a:ext cx="367992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80000"/>
              </a:lnSpc>
              <a:spcBef>
                <a:spcPts val="788"/>
              </a:spcBef>
              <a:spcAft>
                <a:spcPts val="437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Under tilbakelasting av diesel “power pack” åpnet døren seg og falt av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788"/>
              </a:spcBef>
              <a:spcAft>
                <a:spcPts val="437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Videre gransking viste at dørhengslene var ødelagt og var reparert med  strip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90400" y="1982880"/>
            <a:ext cx="80186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 Black"/>
              </a:rPr>
              <a:t>Pakking 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– atkomstluke falt av under tilbakelasting</a:t>
            </a:r>
            <a:r>
              <a:rPr b="0" lang="en-GB" sz="21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17400" y="4114800"/>
            <a:ext cx="3530880" cy="21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>
              <a:lnSpc>
                <a:spcPct val="100000"/>
              </a:lnSpc>
              <a:spcBef>
                <a:spcPts val="901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bed1"/>
                </a:solidFill>
                <a:latin typeface="Arial"/>
              </a:rPr>
              <a:t>Årsak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901"/>
              </a:spcBef>
              <a:spcAft>
                <a:spcPts val="499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årlig vedlikehold og fabrikasjon av container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901"/>
              </a:spcBef>
              <a:spcAft>
                <a:spcPts val="499"/>
              </a:spcAft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årlig inspeksjonsrutiner før utskip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901"/>
              </a:spcBef>
              <a:spcAft>
                <a:spcPts val="499"/>
              </a:spcAft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Utilstrekkelig reparasjonsmetod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4495680" y="2905200"/>
            <a:ext cx="3943440" cy="310680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</p:spTree>
  </p:cSld>
  <p:transition>
    <p:wipe dir="r"/>
  </p:transition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fill="hold">
                      <p:stCondLst>
                        <p:cond delay="0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500"/>
                            </p:stCondLst>
                            <p:childTnLst>
                              <p:par>
                                <p:cTn id="88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8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2000"/>
                            </p:stCondLst>
                            <p:childTnLst>
                              <p:par>
                                <p:cTn id="89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2" dur="5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3500"/>
                            </p:stCondLst>
                            <p:childTnLst>
                              <p:par>
                                <p:cTn id="89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6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5000"/>
                            </p:stCondLst>
                            <p:childTnLst>
                              <p:par>
                                <p:cTn id="89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0" dur="5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6500"/>
                            </p:stCondLst>
                            <p:childTnLst>
                              <p:par>
                                <p:cTn id="90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4" dur="5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8000"/>
                            </p:stCondLst>
                            <p:childTnLst>
                              <p:par>
                                <p:cTn id="90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8" dur="5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0" y="1387440"/>
            <a:ext cx="9144000" cy="547056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09760" y="601200"/>
            <a:ext cx="76039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Ansvar i alle ledd i forsyningskjed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7040" y="2657160"/>
            <a:ext cx="3689640" cy="17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901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ontainer som var sendt tilbake på land. Luken åpnet seg og falt av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spcBef>
                <a:spcPts val="901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Videre gransking viste at hengslene var mangelfulle og at containeren hadde fått betydelige støtskade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90400" y="1982880"/>
            <a:ext cx="79981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 Black"/>
              </a:rPr>
              <a:t>Pakking 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– luke falt av under tilbakesending</a:t>
            </a:r>
            <a:r>
              <a:rPr b="0" lang="en-GB" sz="21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17400" y="4314960"/>
            <a:ext cx="3530880" cy="21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bed1"/>
                </a:solidFill>
                <a:latin typeface="Arial"/>
              </a:rPr>
              <a:t>Årsak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spcAft>
                <a:spcPts val="499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årlig fabrikasjon og vedlikehold av contain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spcAft>
                <a:spcPts val="499"/>
              </a:spcAft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årlig inspeksjonsrutiner før utskip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spcAft>
                <a:spcPts val="499"/>
              </a:spcAft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årlig lasthåndtering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4478400" y="2960640"/>
            <a:ext cx="3962160" cy="296856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277" name=""/>
          <p:cNvSpPr/>
          <p:nvPr/>
        </p:nvSpPr>
        <p:spPr>
          <a:xfrm>
            <a:off x="3821040" y="3919680"/>
            <a:ext cx="1766880" cy="12776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fill="hold">
                      <p:stCondLst>
                        <p:cond delay="0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500"/>
                            </p:stCondLst>
                            <p:childTnLst>
                              <p:par>
                                <p:cTn id="91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9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2000"/>
                            </p:stCondLst>
                            <p:childTnLst>
                              <p:par>
                                <p:cTn id="9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3" dur="5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3500"/>
                            </p:stCondLst>
                            <p:childTnLst>
                              <p:par>
                                <p:cTn id="9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4000"/>
                            </p:stCondLst>
                            <p:childTnLst>
                              <p:par>
                                <p:cTn id="92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1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5500"/>
                            </p:stCondLst>
                            <p:childTnLst>
                              <p:par>
                                <p:cTn id="93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5" dur="5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7000"/>
                            </p:stCondLst>
                            <p:childTnLst>
                              <p:par>
                                <p:cTn id="93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9" dur="5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8500"/>
                            </p:stCondLst>
                            <p:childTnLst>
                              <p:par>
                                <p:cTn id="94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3" dur="500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0" y="1387440"/>
            <a:ext cx="9144000" cy="547056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0" y="1387440"/>
            <a:ext cx="9144000" cy="547056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09760" y="601200"/>
            <a:ext cx="76039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Ansvar i alle ledd i forsyningskjed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17400" y="2715840"/>
            <a:ext cx="3711600" cy="11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80000"/>
              </a:lnSpc>
              <a:spcBef>
                <a:spcPts val="901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Kasse som var sendt tilbake på land kollapset under løft fra 20 fots høyd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901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Kassen inneholdt usikrede vektrø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90400" y="1982880"/>
            <a:ext cx="78249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 Black"/>
              </a:rPr>
              <a:t>Pakking 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– kasse falt sammen under tilbakesending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17400" y="4113360"/>
            <a:ext cx="3765600" cy="20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bed1"/>
                </a:solidFill>
                <a:latin typeface="Arial"/>
              </a:rPr>
              <a:t>Årsak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årlig bedømmelse av kassens bæreev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årlig inspeksjonsrutiner før utskip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Utilstrekkelig sikringsmetod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3"/>
          <a:stretch/>
        </p:blipFill>
        <p:spPr>
          <a:xfrm>
            <a:off x="4435560" y="2720880"/>
            <a:ext cx="4003560" cy="347184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</p:spTree>
  </p:cSld>
  <p:transition>
    <p:wipe dir="r"/>
  </p:transition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0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500"/>
                            </p:stCondLst>
                            <p:childTnLst>
                              <p:par>
                                <p:cTn id="9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4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fill="hold">
                            <p:stCondLst>
                              <p:cond delay="2000"/>
                            </p:stCondLst>
                            <p:childTnLst>
                              <p:par>
                                <p:cTn id="95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8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fill="hold">
                            <p:stCondLst>
                              <p:cond delay="3500"/>
                            </p:stCondLst>
                            <p:childTnLst>
                              <p:par>
                                <p:cTn id="96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2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5000"/>
                            </p:stCondLst>
                            <p:childTnLst>
                              <p:par>
                                <p:cTn id="96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6" dur="5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6500"/>
                            </p:stCondLst>
                            <p:childTnLst>
                              <p:par>
                                <p:cTn id="96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0" dur="5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8000"/>
                            </p:stCondLst>
                            <p:childTnLst>
                              <p:par>
                                <p:cTn id="97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4" dur="5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09760" y="601200"/>
            <a:ext cx="76039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Ansvar i alle ledd i forsyningskjed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123840" y="1452600"/>
            <a:ext cx="8896320" cy="53244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>
            <a:hlinkClick r:id="rId1"/>
          </p:cNvPr>
          <p:cNvSpPr/>
          <p:nvPr/>
        </p:nvSpPr>
        <p:spPr>
          <a:xfrm>
            <a:off x="336240" y="654696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</a:t>
            </a: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dropsworkpack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5295960" y="6478560"/>
            <a:ext cx="2184480" cy="36360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3297600" y="6570720"/>
            <a:ext cx="205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Utarbeidet i samarbeid m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698040" y="4826160"/>
            <a:ext cx="826956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1925"/>
              </a:spcBef>
              <a:spcAft>
                <a:spcPts val="19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Alles ansvar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698040" y="4129200"/>
            <a:ext cx="7381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f1209"/>
                </a:solidFill>
                <a:latin typeface="Arial Black"/>
              </a:rPr>
              <a:t>Fallende gjenstander</a:t>
            </a:r>
            <a:endParaRPr b="0" lang="en-US" sz="4400" spc="-1" strike="noStrike">
              <a:solidFill>
                <a:srgbClr val="ef1209"/>
              </a:solidFill>
              <a:latin typeface="Arial Black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3"/>
          <a:stretch/>
        </p:blipFill>
        <p:spPr>
          <a:xfrm>
            <a:off x="0" y="2768760"/>
            <a:ext cx="9144000" cy="84600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7205400" y="6450120"/>
            <a:ext cx="183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ffffff"/>
                </a:solidFill>
                <a:latin typeface="Arial"/>
              </a:rPr>
              <a:t>og </a:t>
            </a:r>
            <a:r>
              <a:rPr b="1" lang="nb-NO" sz="2000" spc="-1" strike="noStrike">
                <a:solidFill>
                  <a:srgbClr val="ffffff"/>
                </a:solidFill>
                <a:latin typeface="Arial"/>
              </a:rPr>
              <a:t>Statoil AS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975" dur="indefinite" restart="never" nodeType="tmRoot">
          <p:childTnLst>
            <p:seq>
              <p:cTn id="976" dur="indefinite" nodeType="mainSeq">
                <p:childTnLst>
                  <p:par>
                    <p:cTn id="977" fill="hold">
                      <p:stCondLst>
                        <p:cond delay="0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1500"/>
                            </p:stCondLst>
                            <p:childTnLst>
                              <p:par>
                                <p:cTn id="98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3000"/>
                            </p:stCondLst>
                            <p:childTnLst>
                              <p:par>
                                <p:cTn id="98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0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09760" y="601200"/>
            <a:ext cx="76039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Ansvar i alle ledd i forsyningskjed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23840" y="1500120"/>
            <a:ext cx="8896320" cy="53244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1387440"/>
            <a:ext cx="9144000" cy="54705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09760" y="601200"/>
            <a:ext cx="76039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Ansvar i alle ledd i forsyningskjed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0400" y="1982880"/>
            <a:ext cx="2619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 Black"/>
              </a:rPr>
              <a:t>Design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17400" y="2716200"/>
            <a:ext cx="1530360" cy="24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9bed1"/>
                </a:solidFill>
                <a:latin typeface="Arial"/>
              </a:rPr>
              <a:t>Ansv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9bed1"/>
                </a:solidFill>
                <a:latin typeface="Arial"/>
              </a:rPr>
              <a:t>Fa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9bed1"/>
                </a:solidFill>
                <a:latin typeface="Arial"/>
              </a:rPr>
              <a:t>Kontroller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9bed1"/>
                </a:solidFill>
                <a:latin typeface="Arial"/>
              </a:rPr>
              <a:t>Vurd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62160" y="2716200"/>
            <a:ext cx="6399360" cy="26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esigne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Fallende gjenstander pga. dårlig konstruksj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Kompetent personell, prosedyrer, informasjonstilgang, instruksjon, opplæring og tilsyn, kvalitetskontrol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Vibrasjon, korrosjon, støt under transport, støtbelastning, </a:t>
            </a:r>
            <a:br>
              <a:rPr sz="1600"/>
            </a:b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kontakt med faste/bevegelige gjenstand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50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50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0"/>
                            </p:stCondLst>
                            <p:childTnLst>
                              <p:par>
                                <p:cTn id="5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650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1387440"/>
            <a:ext cx="9144000" cy="5470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09760" y="601200"/>
            <a:ext cx="76039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Ansvar i alle ledd i forsyningskjed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7400" y="2716200"/>
            <a:ext cx="4526280" cy="12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spcBef>
                <a:spcPts val="799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 bolt som fester gripehodet  til “upper racking arm” løsnet og falt ned på boredekk under tripp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799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lt personell var utenfor faresone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7400" y="4091040"/>
            <a:ext cx="4854600" cy="21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bed1"/>
                </a:solidFill>
                <a:latin typeface="Arial"/>
              </a:rPr>
              <a:t>Årsak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799"/>
              </a:spcBef>
              <a:spcAft>
                <a:spcPts val="300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Bruk av feil materiale under produksjon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799"/>
              </a:spcBef>
              <a:spcAft>
                <a:spcPts val="300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Bolten hadde feil delenumm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799"/>
              </a:spcBef>
              <a:spcAft>
                <a:spcPts val="300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Feilkonstruksjon – skulle ikke hatt sveist ho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799"/>
              </a:spcBef>
              <a:spcAft>
                <a:spcPts val="300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Bolten fikk ny utforming i 2000 – ble ikke skiftet ut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281560" y="2720880"/>
            <a:ext cx="2657520" cy="155916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986440" y="4191120"/>
            <a:ext cx="2452680" cy="200160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590400" y="1982880"/>
            <a:ext cx="78487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 Black"/>
              </a:rPr>
              <a:t>Design:</a:t>
            </a:r>
            <a:r>
              <a:rPr b="0" lang="nb-NO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b-NO" sz="2000" spc="-1" strike="noStrike">
                <a:solidFill>
                  <a:srgbClr val="ffffff"/>
                </a:solidFill>
                <a:latin typeface="Arial"/>
              </a:rPr>
              <a:t>Bolt falt fra URA til boredekk –   1,6 kg x 25 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500"/>
                            </p:stCondLst>
                            <p:childTnLst>
                              <p:par>
                                <p:cTn id="8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4000"/>
                            </p:stCondLst>
                            <p:childTnLst>
                              <p:par>
                                <p:cTn id="8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500"/>
                            </p:stCondLst>
                            <p:childTnLst>
                              <p:par>
                                <p:cTn id="8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700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500"/>
                            </p:stCondLst>
                            <p:childTnLst>
                              <p:par>
                                <p:cTn id="9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1387440"/>
            <a:ext cx="9144000" cy="547056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09760" y="601200"/>
            <a:ext cx="76039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Ansvar i alle ledd i forsyningskjed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90400" y="1982880"/>
            <a:ext cx="47037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 Black"/>
              </a:rPr>
              <a:t>Fabrikasjon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17400" y="2716200"/>
            <a:ext cx="1530360" cy="24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9bed1"/>
                </a:solidFill>
                <a:latin typeface="Arial"/>
              </a:rPr>
              <a:t>Ansv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9bed1"/>
                </a:solidFill>
                <a:latin typeface="Arial"/>
              </a:rPr>
              <a:t>Fa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9bed1"/>
                </a:solidFill>
                <a:latin typeface="Arial"/>
              </a:rPr>
              <a:t>Kontroller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9bed1"/>
                </a:solidFill>
                <a:latin typeface="Arial"/>
              </a:rPr>
              <a:t>Vurd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62160" y="2716200"/>
            <a:ext cx="6399360" cy="24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Utstyrsleverandø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Løse gjenstander, skrapmaterialer, gjenglemt verktø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Kompetent personell, prosedyrer, kvalitetskontroll, informasjon, instruksjon, opplæring og tilsy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Løse materialer etter bygging, siste sjek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400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500"/>
                            </p:stCondLst>
                            <p:childTnLst>
                              <p:par>
                                <p:cTn id="12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1387440"/>
            <a:ext cx="9144000" cy="547056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09760" y="601200"/>
            <a:ext cx="76039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Ansvar i alle ledd i forsyningskjed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7040" y="2716200"/>
            <a:ext cx="257652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39760" indent="-239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tang som holder på plass gummilist på skidramme falt 30 m til lastedekk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90400" y="1982880"/>
            <a:ext cx="66517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 Black"/>
              </a:rPr>
              <a:t>Fabrikasjon 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- Stang falt  30 m til lastedekk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701880" y="2720880"/>
            <a:ext cx="4572000" cy="166392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108240" y="4056120"/>
            <a:ext cx="2559240" cy="191772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5880240" y="4275000"/>
            <a:ext cx="2558880" cy="191772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118" name=""/>
          <p:cNvSpPr/>
          <p:nvPr/>
        </p:nvSpPr>
        <p:spPr>
          <a:xfrm>
            <a:off x="617400" y="3710160"/>
            <a:ext cx="2899080" cy="17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4040" indent="-2840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bed1"/>
                </a:solidFill>
                <a:latin typeface="Arial"/>
              </a:rPr>
              <a:t>Årsak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årlig konstruksj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årlig tilvirk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årlig vedlikehold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0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450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60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75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387440"/>
            <a:ext cx="9144000" cy="54705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09760" y="601200"/>
            <a:ext cx="76039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Ansvar i alle ledd i forsyningskjed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90400" y="1982880"/>
            <a:ext cx="2619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 Black"/>
              </a:rPr>
              <a:t>Pakking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7400" y="2716200"/>
            <a:ext cx="1530360" cy="24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9bed1"/>
                </a:solidFill>
                <a:latin typeface="Arial"/>
              </a:rPr>
              <a:t>Ansv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9bed1"/>
                </a:solidFill>
                <a:latin typeface="Arial"/>
              </a:rPr>
              <a:t>Fa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9bed1"/>
                </a:solidFill>
                <a:latin typeface="Arial"/>
              </a:rPr>
              <a:t>Kontroller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9bed1"/>
                </a:solidFill>
                <a:latin typeface="Arial"/>
              </a:rPr>
              <a:t>Vurd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162160" y="2716200"/>
            <a:ext cx="6399360" cy="26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akkeansvarli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Løs innpakning, skade på utstyr, løse gjenstand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Kompetent personell, kvalitetskontroll, prosedyrer, </a:t>
            </a:r>
            <a:br>
              <a:rPr sz="1600"/>
            </a:b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retningslinjer for lasthåndter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ikker stuing av alt utstyr til sammenstilling/pakking. </a:t>
            </a:r>
            <a:br>
              <a:rPr sz="1600"/>
            </a:b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åse at pakkeutstyr kan brukes ved retur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000"/>
                            </p:stCondLst>
                            <p:childTnLst>
                              <p:par>
                                <p:cTn id="18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50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9T07:33:28Z</dcterms:created>
  <dc:creator>Brian Milne</dc:creator>
  <dc:description/>
  <dc:language>en-US</dc:language>
  <cp:lastModifiedBy>Kolstø, Johan</cp:lastModifiedBy>
  <dcterms:modified xsi:type="dcterms:W3CDTF">2005-06-27T08:07:22Z</dcterms:modified>
  <cp:revision>278</cp:revision>
  <dc:subject>Dropped Objects - Who's Responsible</dc:subject>
  <dc:title>PowerPoint Presentation</dc:title>
</cp:coreProperties>
</file>